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9A0-C3E8-4333-B1B8-8BB3B7EF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226-BB12-4D5E-A420-9363E3FD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289-FDCB-4B9A-94F8-12CCA8B5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A19-ECFD-4F4B-B486-E32B29EE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E11-A251-43E2-AC9A-0D93238A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5E2-D7C6-483B-BF28-530A4F45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312-E872-4EDE-9599-FA649248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1611-37DA-4977-B858-53859DAC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FC2-42A6-42A4-8433-38381349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A12-7932-42CD-8906-7E0A0A10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137-DF81-4D5D-BBFC-AA15A465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434-AC84-4FE0-A000-5412A80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7092-A5BF-43CB-89CD-AFB15C05A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>Acropolis</dc:description>
  <dc:language>en-US</dc:language>
  <cp:lastModifiedBy>BHISD</cp:lastModifiedBy>
  <dcterms:modified xsi:type="dcterms:W3CDTF">2012-03-09T20:23:24Z</dcterms:modified>
  <cp:revision>95</cp:revision>
  <dc:subject/>
  <dc:title>2.Change.NAME.Greece.vocab.tem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2.Change.NAME.Greece.vocab.temp</vt:lpwstr>
  </property>
  <property fmtid="{D5CDD505-2E9C-101B-9397-08002B2CF9AE}" pid="3" name="SlideDescription">
    <vt:lpwstr>Acropolis</vt:lpwstr>
  </property>
</Properties>
</file>